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7AE-86E3-4E67-9A85-07A6CC1F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78087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9080" y="3757680"/>
            <a:ext cx="78087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46B-05F7-4B98-B2CD-C14A16F2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9080" y="375768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480" y="375768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E64-FB8F-40DF-B9B9-610A54C2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320" y="120132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20132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9080" y="375768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320" y="375768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75768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5F3-6B4C-481D-837A-EA6A2786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4D29-8A41-480D-9A5A-2AF9EC2C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9080" y="1201320"/>
            <a:ext cx="78087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F6FE-7CE9-4FC0-BA7B-D8560936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78087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E55A-7BF6-42BB-8D02-0D410F7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DAC6-40D0-4F81-A9DC-45B51739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2869-C80C-4B12-BCC3-D05EF7EB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46160" y="257040"/>
            <a:ext cx="718992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F1BA-C4DB-4611-93D3-D177864F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9080" y="375768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AA48-AD24-4A1D-B853-294D3749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9080" y="1201320"/>
            <a:ext cx="78087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FD5-7085-461B-A7A8-333BC0E9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0480" y="375768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C1C5-587A-4293-8CE8-A87BCA46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9080" y="3757680"/>
            <a:ext cx="78087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452D-2BBE-4A78-856F-E3F3335E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78087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49080" y="3757680"/>
            <a:ext cx="78087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6620-C87E-47DB-B758-26762A00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9080" y="375768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0480" y="375768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FF77-0B6D-413D-8D79-1C2CA4F4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9320" y="120132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20132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49080" y="375768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9320" y="375768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757680"/>
            <a:ext cx="251424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42BA-95C9-4D00-A80B-D70A3B82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78087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BC7-7190-497D-8B59-142B99A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311-5B2A-44DD-AC3D-7947FF25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028-C081-42D0-ACF6-2FCE3622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6160" y="257040"/>
            <a:ext cx="718992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C31-52A6-47FE-8D92-98954680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9080" y="375768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318-76F0-44E8-BDCA-A311167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480" y="375768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F9C-6EFA-4400-B567-93EC44F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90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480" y="1201320"/>
            <a:ext cx="38106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9080" y="3757680"/>
            <a:ext cx="78087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422-445F-4B17-8C9D-D3191B71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080" y="1201320"/>
            <a:ext cx="78087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480" y="6554520"/>
            <a:ext cx="204948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omic Sans MS"/>
              </a:rPr>
              <a:t>Apr. 17, 2013 - Wolfe et 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5120" y="6533640"/>
            <a:ext cx="19051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A6A0-D29E-43B7-BB67-0EB051C784AF}" type="slidenum">
              <a:rPr b="0" lang="en-US" sz="10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MODIS_Logo_2"/>
          <p:cNvPicPr/>
          <p:nvPr/>
        </p:nvPicPr>
        <p:blipFill>
          <a:blip r:embed="rId2"/>
          <a:stretch/>
        </p:blipFill>
        <p:spPr>
          <a:xfrm>
            <a:off x="109440" y="127080"/>
            <a:ext cx="74628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MODIS_Logo_2"/>
          <p:cNvPicPr/>
          <p:nvPr/>
        </p:nvPicPr>
        <p:blipFill>
          <a:blip r:embed="rId2"/>
          <a:stretch/>
        </p:blipFill>
        <p:spPr>
          <a:xfrm>
            <a:off x="109440" y="127080"/>
            <a:ext cx="74628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49080" y="1201320"/>
            <a:ext cx="78087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480" y="6554520"/>
            <a:ext cx="204948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omic Sans MS"/>
              </a:rPr>
              <a:t>July 19, 2019 - Wolfe et 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15120" y="6533640"/>
            <a:ext cx="19051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1DFB-C2ED-437D-B0D4-93DF66BAA2AA}" type="slidenum">
              <a:rPr b="0" lang="en-US" sz="10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69880" y="983880"/>
            <a:ext cx="5878800" cy="229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External Geolocation for Swath Data</a:t>
            </a:r>
            <a:endParaRPr b="0" lang="en-US" sz="4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85" name="Picture 7" descr="NASA[1]"/>
          <p:cNvPicPr/>
          <p:nvPr/>
        </p:nvPicPr>
        <p:blipFill>
          <a:blip r:embed="rId1"/>
          <a:stretch/>
        </p:blipFill>
        <p:spPr>
          <a:xfrm>
            <a:off x="8166240" y="109440"/>
            <a:ext cx="830160" cy="779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Light vertical"/>
          <p:cNvPicPr/>
          <p:nvPr/>
        </p:nvPicPr>
        <p:blipFill>
          <a:blip r:embed="rId2"/>
          <a:srcRect l="0" t="0" r="12615" b="0"/>
          <a:stretch/>
        </p:blipFill>
        <p:spPr>
          <a:xfrm>
            <a:off x="0" y="5850000"/>
            <a:ext cx="1044720" cy="8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12"/>
          <p:cNvGraphicFramePr/>
          <p:nvPr/>
        </p:nvGraphicFramePr>
        <p:xfrm>
          <a:off x="6375240" y="4024440"/>
          <a:ext cx="2590920" cy="25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5240" y="4024440"/>
                    <a:ext cx="259092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60000" y="3173040"/>
            <a:ext cx="6169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IP Federation Mee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uly 19, 201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bert Wolf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S Production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ion Team Me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SA GSFC Code 61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Object 13"/>
          <p:cNvGraphicFramePr/>
          <p:nvPr/>
        </p:nvGraphicFramePr>
        <p:xfrm>
          <a:off x="1109520" y="5859360"/>
          <a:ext cx="57816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9520" y="5859360"/>
                    <a:ext cx="5781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Why External Geolocation?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3680" y="1260000"/>
            <a:ext cx="846324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ath products (called Level 1 and Level 2 by NASA) are in the original instrument geometry (not gridd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location information is needed for remapping but also understanding the 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location data can be as large or larger than some L2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ing this information in each L1/L2 product increases archive volume and for users who work with multiple products, the information would be duplic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talk, MODIS is used as an example – other satellite and aircraft instruments have similar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15840" y="6554880"/>
            <a:ext cx="2049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omic Sans MS"/>
              </a:rPr>
              <a:t>July 19, 2019 - Wolfe et 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7215120" y="6534000"/>
            <a:ext cx="1905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309A-C248-430F-ABD3-B2AA9C23E869}" type="slidenum">
              <a:rPr b="0" lang="en-US" sz="10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NASA MODIS Instruments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1680" y="2887560"/>
            <a:ext cx="5585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rate Resolution Imaging Spectroradiome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6 Spectral Bands from 0.4 to 14.3 µ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dir spatial resolution 250 m to 1 k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ily global coverage (day and night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th width 2330 k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launched in 1999 on Terra satelli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:30 am local equatorial crossing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launched in 2002 on Aqua satelli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:30 pm local equatorial crossing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5840" y="6554880"/>
            <a:ext cx="2049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omic Sans MS"/>
              </a:rPr>
              <a:t>July 19, 2019 - Wolfe et 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7215120" y="6534000"/>
            <a:ext cx="1905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6CD9-0752-4223-AAC3-FC2B1870CDB4}" type="slidenum">
              <a:rPr b="0" lang="en-US" sz="10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271520" y="988920"/>
            <a:ext cx="2325600" cy="1805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5737320" y="1133640"/>
            <a:ext cx="3116160" cy="5545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3"/>
          <a:stretch/>
        </p:blipFill>
        <p:spPr>
          <a:xfrm>
            <a:off x="4743360" y="988920"/>
            <a:ext cx="255132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Geolocation means?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9080" y="1201320"/>
            <a:ext cx="78087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itude and longitude of observation (sample/pix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rain corrected for terrestrial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 observation geometr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ight, sensor range, sensor view and solar angles, quality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for understanding observation con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ly computed and used for ever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15840" y="6554880"/>
            <a:ext cx="2049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omic Sans MS"/>
              </a:rPr>
              <a:t>July 19, 2019 - Wolfe et 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215120" y="6534000"/>
            <a:ext cx="1905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1EC6-C14C-4CA9-90C3-CA7D28622968}" type="slidenum">
              <a:rPr b="0" lang="en-US" sz="10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ODIS L1/L2 Products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15840" y="6554880"/>
            <a:ext cx="2049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omic Sans MS"/>
              </a:rPr>
              <a:t>July 19, 2019 - Wolfe et 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215120" y="6534000"/>
            <a:ext cx="1905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BBE4-D95A-4AAE-B27A-3B6D508AD696}" type="slidenum">
              <a:rPr b="0" lang="en-US" sz="10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5840" y="6534000"/>
            <a:ext cx="263520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4040" y="942840"/>
          <a:ext cx="8555040" cy="5853240"/>
        </p:xfrm>
        <a:graphic>
          <a:graphicData uri="http://schemas.openxmlformats.org/drawingml/2006/table">
            <a:tbl>
              <a:tblPr/>
              <a:tblGrid>
                <a:gridCol w="1016280"/>
                <a:gridCol w="4856040"/>
                <a:gridCol w="884160"/>
                <a:gridCol w="874800"/>
                <a:gridCol w="923760"/>
              </a:tblGrid>
              <a:tr h="639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nules 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nule size (M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ily volume (GB/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3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location Fields 5-Min L1A Swath 1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21KM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brated Radiances 5-Min L1B Swath 1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2HKM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brated Radiances 5-Min L1B Swath 500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2QKM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brated Radiances 5-Min L1B Swath 250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mos 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7_L2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and Water Vapor Profiles 5-Min L2 Swath 5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35_L2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ud Mask and Spectral Test Results 5-Min L2 Swath 250m and 1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4_3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rosol 5-Min L2 Swath 3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4_L2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rosol 5-Min L2 Swath 10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5_L2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ecipitable Water Vapor 5-Min L2 Swath 1km and 5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6_L2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uds 5-Min L2 Swath 1km and 5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and 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09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mos. Corrected Surface Reflectance 5-Min L2 Swath 250m, 500m, 1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10_L2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w Cover 5-Min L2 Swath 500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11_L2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 Surface Temperature/Emissivity 5-Min L2 Swath 1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14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al Anomalies/Fire 5-Min L2 Swath 1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21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 Surface Temperature/3-Band Emissivity 5-Min L2 1 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29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 Ice Extent 5-Min L2 Swath 1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548480" cy="60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Volume With and Without Geolocation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15840" y="6554880"/>
            <a:ext cx="2049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omic Sans MS"/>
              </a:rPr>
              <a:t>July 19, 2019 - Wolfe et 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215120" y="6534000"/>
            <a:ext cx="1905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CA26-49EF-4891-AA48-05DABA3146FA}" type="slidenum">
              <a:rPr b="0" lang="en-US" sz="10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036800"/>
          <a:ext cx="8534160" cy="3474720"/>
        </p:xfrm>
        <a:graphic>
          <a:graphicData uri="http://schemas.openxmlformats.org/drawingml/2006/table">
            <a:tbl>
              <a:tblPr/>
              <a:tblGrid>
                <a:gridCol w="1046160"/>
                <a:gridCol w="1096920"/>
                <a:gridCol w="925560"/>
                <a:gridCol w="2062080"/>
                <a:gridCol w="1117440"/>
                <a:gridCol w="2286000"/>
              </a:tblGrid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rrent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beded 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/o Embed Geo 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 Partial Geo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1 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1 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(+ 9%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+ 1% to + 1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(+26 %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+10 % to +14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2 At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+6 %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+2 % to +35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(+58 %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+0 % to +575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2 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(+7 %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+5 % to + 55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 (+38 %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+4 % to +591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(+ 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 (+ 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16" name="TextBox 1"/>
          <p:cNvSpPr/>
          <p:nvPr/>
        </p:nvSpPr>
        <p:spPr>
          <a:xfrm>
            <a:off x="217440" y="4707000"/>
            <a:ext cx="51069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olume units are GB/day (internal compr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beded geolocation is a subset, e.g. lat/lon only, reduced resolution (5 k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tial geolocation: lat/long at 1 km and sensor/solar view angles at 5 km (replaces embedded geolo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292720" y="4722840"/>
            <a:ext cx="379728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rrent MODIS L1, L2 Land/Atmos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 years of Terr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13 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8 years of Aqu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02 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8 Total mission year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15 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6160" y="257040"/>
            <a:ext cx="7189920" cy="60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Better support is needed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9080" y="1201320"/>
            <a:ext cx="78087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distributers should give options for users to automaticity download external geolocation granules with L1 and L2 gran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s (e.g. NetCDF) should include identifiers (pointers) for external geolocation granules (fil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NetCDF, external variables are allowed, but granule/file identifiers are mi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tools and libraries should allow for external geolo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5840" y="6554880"/>
            <a:ext cx="2049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omic Sans MS"/>
              </a:rPr>
              <a:t>July 19, 2019 - Wolfe et 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7215120" y="6534000"/>
            <a:ext cx="1905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1933-066C-4444-8691-980944E7ADE8}" type="slidenum">
              <a:rPr b="0" lang="en-US" sz="10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15840" y="6554880"/>
            <a:ext cx="2049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omic Sans MS"/>
              </a:rPr>
              <a:t>Apr. 17, 2013 - Wolfe et 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7215120" y="6534000"/>
            <a:ext cx="1905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6995-2FF5-4093-B96B-D125E48BB305}" type="slidenum">
              <a:rPr b="0" lang="en-US" sz="10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79200" y="6434280"/>
            <a:ext cx="240372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1587600" y="297000"/>
            <a:ext cx="5957280" cy="5959080"/>
            <a:chOff x="1587600" y="297000"/>
            <a:chExt cx="5957280" cy="5959080"/>
          </a:xfrm>
        </p:grpSpPr>
        <p:graphicFrame>
          <p:nvGraphicFramePr>
            <p:cNvPr id="126" name="Object 6"/>
            <p:cNvGraphicFramePr/>
            <p:nvPr/>
          </p:nvGraphicFramePr>
          <p:xfrm>
            <a:off x="1952280" y="705240"/>
            <a:ext cx="5243400" cy="516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52280" y="705240"/>
                      <a:ext cx="5243400" cy="516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AutoShape 7"/>
            <p:cNvSpPr/>
            <p:nvPr/>
          </p:nvSpPr>
          <p:spPr>
            <a:xfrm>
              <a:off x="1587600" y="297000"/>
              <a:ext cx="5957280" cy="5959080"/>
            </a:xfrm>
            <a:custGeom>
              <a:avLst/>
              <a:gdLst>
                <a:gd name="textAreaLeft" fmla="*/ 871920 w 5957280"/>
                <a:gd name="textAreaRight" fmla="*/ 5085360 w 5957280"/>
                <a:gd name="textAreaTop" fmla="*/ 871560 h 5959080"/>
                <a:gd name="textAreaBottom" fmla="*/ 5087520 h 59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578" y="10800"/>
                  </a:moveTo>
                  <a:cubicBezTo>
                    <a:pt x="1578" y="15893"/>
                    <a:pt x="5707" y="20022"/>
                    <a:pt x="10800" y="20022"/>
                  </a:cubicBezTo>
                  <a:cubicBezTo>
                    <a:pt x="15893" y="20022"/>
                    <a:pt x="20022" y="15893"/>
                    <a:pt x="20022" y="10800"/>
                  </a:cubicBezTo>
                  <a:cubicBezTo>
                    <a:pt x="20022" y="5707"/>
                    <a:pt x="15893" y="1578"/>
                    <a:pt x="10800" y="1578"/>
                  </a:cubicBezTo>
                  <a:cubicBezTo>
                    <a:pt x="5707" y="1578"/>
                    <a:pt x="1578" y="5707"/>
                    <a:pt x="15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1819080" y="4469760"/>
              <a:ext cx="1526760" cy="15033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 flipH="1">
              <a:off x="5887800" y="4426560"/>
              <a:ext cx="1527120" cy="15037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 flipV="1">
              <a:off x="1802880" y="656640"/>
              <a:ext cx="1526760" cy="15033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flipH="1" flipV="1">
              <a:off x="5871240" y="613800"/>
              <a:ext cx="1526760" cy="15033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Rectangle 12"/>
          <p:cNvSpPr/>
          <p:nvPr/>
        </p:nvSpPr>
        <p:spPr>
          <a:xfrm>
            <a:off x="936720" y="6039000"/>
            <a:ext cx="7327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21:42:53Z</dcterms:created>
  <dc:creator>Robert E. Wolfe</dc:creator>
  <dc:description/>
  <dc:language>en-US</dc:language>
  <cp:lastModifiedBy>Wolfe, Robert E. (GSFC-6190)</cp:lastModifiedBy>
  <dcterms:modified xsi:type="dcterms:W3CDTF">2019-07-19T17:41:05Z</dcterms:modified>
  <cp:revision>325</cp:revision>
  <dc:subject/>
  <dc:title>PowerPoint Presentation</dc:title>
</cp:coreProperties>
</file>